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AB1-57DD-4012-8631-BA59BBAF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F9A-606C-431D-BFC9-B1157E96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250-C5CC-4FD2-B520-ACC1D51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EF6-B9E6-4707-85BE-94D85CBB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72E-4C48-4D9F-9A98-32E41C6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770-956A-4439-979C-FA7EA63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10A-7C63-4E92-A03F-B389F4C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F1A-73EA-4F79-8B05-CC4B3F29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6BD-1750-4124-B406-C8872E1D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B0A-C8CD-4E29-B6C3-E8222F1A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370-C7AE-4556-B73A-008FDB8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A62-918C-41FF-9AE8-A75CA0B1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A39-5070-42A1-9CA8-A897DEE1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295280"/>
          <a:ext cx="8610120" cy="4800600"/>
        </p:xfrm>
        <a:graphic>
          <a:graphicData uri="http://schemas.openxmlformats.org/drawingml/2006/table">
            <a:tbl>
              <a:tblPr/>
              <a:tblGrid>
                <a:gridCol w="2869920"/>
                <a:gridCol w="2869920"/>
                <a:gridCol w="287028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Is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Hypo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Bradley Hand ITC"/>
                        </a:rPr>
                        <a:t>Hyp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to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tays the s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ell shr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2438640" cy="155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666880" cy="16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514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54:43Z</dcterms:created>
  <dc:creator>AISD</dc:creator>
  <dc:description/>
  <dc:language>en-US</dc:language>
  <cp:lastModifiedBy>AISD</cp:lastModifiedBy>
  <dcterms:modified xsi:type="dcterms:W3CDTF">2009-11-18T18:09:19Z</dcterms:modified>
  <cp:revision>2</cp:revision>
  <dc:subject/>
  <dc:title>Slide 1</dc:title>
</cp:coreProperties>
</file>